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7697-7270-451F-8260-4A5A54F0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4A8-3BBD-4AC0-A7E8-0BD5648E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C29B-09B0-42A5-92F1-7C04A3DA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15B-2693-47EE-B6C2-32911E30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B2F9-EB05-4571-B3B0-1759841F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D2A3-39D0-4EA3-863F-88CC8371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6ED8-BF75-4116-87C9-27091E4A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B577-ED5D-473D-B4CB-4B5498AA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1A72-84F5-471C-A428-7DD1C241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1D44-134E-4170-95DA-48B8015E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F990-968B-45AC-98C6-450243CE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AC83-6FCD-4243-B2A5-2ACAC71A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FA09-FE80-4220-88E8-BEEF4883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BFCD-F1F9-4278-A398-A9D97E8A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C56D-2FB9-40FA-B834-E4FEBD3E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C6BC-0AB8-46A9-BA8A-4D2B1846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CA4F-0465-4521-ACDB-6DB7A981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1FD-63CA-4E59-A1E1-68D81FDF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59F6-05E4-4602-B130-6FB7EBD6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7F5-8B78-431F-8A01-D4AEE2E5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F658-A74D-409B-8777-7ED38042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A67-921B-4F62-BD73-93545663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BE39-46DB-49A0-B3C6-7AE08154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977-8328-42F7-B1E1-C4A7089C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0440" indent="-46044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5440" indent="-38160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69160" indent="-32832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929600" indent="-29340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19480" indent="-276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19480" indent="-2764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19480" indent="-2764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8A64-BAAA-41B7-802A-3B216705AE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0C95-93F9-4370-925D-E3FE893160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37960" algn="ctr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81160" algn="ctr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235080" algn="ctr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235080">
              <a:spcBef>
                <a:spcPts val="4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235080">
              <a:spcBef>
                <a:spcPts val="4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The Nineteenth Century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wing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49528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95440" y="4705200"/>
            <a:ext cx="6581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erica is a land of wonders, in which everything is in constant motion and every change seems an improvement. No natural boundary seems to be set to the efforts of man; and in his eyes what is not yet done is only what he has not yet attempted to do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exis de Tocquevi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0" y="7617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5401"/>
                </a:solidFill>
                <a:latin typeface="Futura"/>
              </a:rPr>
              <a:t>Names and Terms to Know</a:t>
            </a:r>
            <a:endParaRPr b="0" lang="en-US" sz="28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649"/>
              </a:spcBef>
              <a:buClr>
                <a:srgbClr val="cc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Alexis de Tocqueville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enchman sent to report on America’s prisons, but instead took notice of the, “lively faith in the perfectibility of man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cc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Romanticism</a:t>
            </a:r>
            <a:r>
              <a:rPr b="0" lang="en-US" sz="2600" spc="-1" strike="noStrike">
                <a:solidFill>
                  <a:srgbClr val="ff9966"/>
                </a:solidFill>
                <a:latin typeface="Arial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vement in the arts and literature that originated in the late 18th century, emphasizing inspiration, subjectivity and the primacy of the individual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5401"/>
                </a:solidFill>
                <a:latin typeface="Futura"/>
              </a:rPr>
              <a:t>Focus Questions</a:t>
            </a:r>
            <a:endParaRPr b="0" lang="en-US" sz="28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649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5401"/>
                </a:solidFill>
                <a:latin typeface="Arial"/>
              </a:rPr>
              <a:t>In what ways did the growth in the size of the United States during this time period affect the nation’s view of itself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49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5401"/>
                </a:solidFill>
                <a:latin typeface="Arial"/>
              </a:rPr>
              <a:t>As a result of the growing prosperity, what challenges confronted the United States in the mid-nineteenth century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49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5401"/>
                </a:solidFill>
                <a:latin typeface="Arial"/>
              </a:rPr>
              <a:t>In what ways does the literature of this period reflect the country’s expansion?</a:t>
            </a:r>
            <a:r>
              <a:rPr b="0" lang="en-US" sz="2600" spc="-1" strike="noStrike">
                <a:solidFill>
                  <a:srgbClr val="ff0d2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1629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5401"/>
                </a:solidFill>
                <a:latin typeface="Futura"/>
              </a:rPr>
              <a:t>Romantics</a:t>
            </a:r>
            <a:endParaRPr b="0" lang="en-US" sz="2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e early 19th century writers includ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6000" indent="-37368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ington Irv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6000" indent="-37368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mes Fenimore Coo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6000" indent="-37368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iam Cullen Bry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6000" indent="-37368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gar Allen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6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ions of Romantic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6000" indent="-37368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necessarily deal with l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6000" indent="-37368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Romantic writers elevated the imagination over reason and intuition over fa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6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the Civil Wa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6000" indent="-37368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cqueville wrote, “America has produced very few writers of distinction. [The literature of England] still darts its rays into the forests of the New World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6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6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5401"/>
                </a:solidFill>
                <a:latin typeface="Futura"/>
              </a:rPr>
              <a:t>Neoclassicism/</a:t>
            </a:r>
            <a:br>
              <a:rPr sz="2800"/>
            </a:br>
            <a:r>
              <a:rPr b="1" lang="en-US" sz="2800" spc="-1" strike="noStrike">
                <a:solidFill>
                  <a:srgbClr val="2a5401"/>
                </a:solidFill>
                <a:latin typeface="Futura"/>
              </a:rPr>
              <a:t>Enlightenment</a:t>
            </a:r>
            <a:br>
              <a:rPr sz="2800"/>
            </a:br>
            <a:r>
              <a:rPr b="1" lang="en-US" sz="2800" spc="-1" strike="noStrike">
                <a:solidFill>
                  <a:srgbClr val="2a5401"/>
                </a:solidFill>
                <a:latin typeface="Futura"/>
              </a:rPr>
              <a:t>(Revolting against)</a:t>
            </a:r>
            <a:endParaRPr b="0" lang="en-US" sz="28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120" y="27428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550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antic writers rebelled against the neoclassic ideas of the 18th century such 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8556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, form, and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8556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ghtly controlled poetry in the classical m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8556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tra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8556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e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85560">
              <a:lnSpc>
                <a:spcPct val="90000"/>
              </a:lnSpc>
              <a:spcBef>
                <a:spcPts val="499"/>
              </a:spcBef>
              <a:buClr>
                <a:srgbClr val="2a54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ed on adult concerns (ruling cl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Background-</a:t>
            </a:r>
            <a:br>
              <a:rPr sz="4400"/>
            </a:b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Romanticism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550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 18th century to early 19th cent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550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antic movement influenced the social and political landscape of Europ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550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antics rejected science and rea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550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antics embraced nature, emotion, mythology, and individual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550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wer of Imagination was a major strength of the Romantic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Romantic Ideas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550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otions and imag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550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jective experiences of the individual- desires, hopes, and dr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550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ure- creative and destructive fo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550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ntane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550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ri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550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hood, unsophisticated societies, common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550"/>
              </a:spcBef>
              <a:buClr>
                <a:srgbClr val="2a54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sion and v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6:38:26Z</dcterms:created>
  <dc:creator>Buffalo Grove High School</dc:creator>
  <dc:description/>
  <dc:language>en-US</dc:language>
  <cp:lastModifiedBy>Buffalo Grove High School</cp:lastModifiedBy>
  <dcterms:modified xsi:type="dcterms:W3CDTF">2007-10-25T12:27:08Z</dcterms:modified>
  <cp:revision>13</cp:revision>
  <dc:subject/>
  <dc:title>The Nineteenth Century</dc:title>
</cp:coreProperties>
</file>